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73C-BE7E-432D-925D-042B96EB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F6E-84A4-4422-9E6C-FA38CCDE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102-9EED-4463-AC8D-5C2E08AB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4B4-8E45-46FB-A4A3-C4895A54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B3A-DDFD-4A30-91D5-4138B01C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2DE-C37E-4CDB-9855-9195497E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BC5-E31E-4DF3-A765-CE49FEC1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332-364A-4EED-B9FF-F3B4888F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1C6-E8A8-40E7-A6F6-DAE8237A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607-D42B-4682-9C5F-F8D234B8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079-030C-4E96-90D1-95C0A5CF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823-D6EB-4FBD-9D2A-8E2AFD41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36F6-FEB2-4BA5-98EF-1C354C862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O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828036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ulo ITEMS esta diseñado para realizar la mantencion de las tablas 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-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-Materias Pri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-Insu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-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estos ITEMS mencionados, son utilizados finalmente en todo el ciclo operativo de la Empresa, tales como; Ventas, Compras, Produccion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6913800" cy="25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40464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ULO ITEM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cceder al modulo Items, debe ir al menu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edores &gt; Catalogo &gt;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19:44Z</dcterms:created>
  <dc:creator>.</dc:creator>
  <dc:description/>
  <dc:language>en-US</dc:language>
  <cp:lastModifiedBy>.</cp:lastModifiedBy>
  <dcterms:modified xsi:type="dcterms:W3CDTF">2011-10-24T16:09:43Z</dcterms:modified>
  <cp:revision>2</cp:revision>
  <dc:subject/>
  <dc:title>Diapositiva 1</dc:title>
</cp:coreProperties>
</file>